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38D-6966-4AAD-ADF7-E69DC8E7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0B0-F237-42E8-AF02-C819245B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635-ACD6-49A3-AE42-CC8E7B2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8FF-C3A8-4625-8645-BE3E9BC2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A04-8422-4831-909A-3D0240C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811-6F90-48C5-BD65-2D3A002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95E-8205-4D48-AC47-B01EA7D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080-38B8-40A7-9A55-6C6D530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E0F-1170-406C-ADD1-A5858B88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83A-AF32-492D-9B73-3D5E5CD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3C1-EE45-48E7-8764-97F0C89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061-E130-4CE8-8B80-BCC0AF1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5DB7-9729-49C1-A995-7298E10447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itos"/>
          <p:cNvPicPr/>
          <p:nvPr/>
        </p:nvPicPr>
        <p:blipFill>
          <a:blip r:embed="rId2"/>
          <a:stretch/>
        </p:blipFill>
        <p:spPr>
          <a:xfrm>
            <a:off x="2124000" y="1413000"/>
            <a:ext cx="4918320" cy="3695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50524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.01.1874 – 31.10.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419640" y="60768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1:02Z</dcterms:created>
  <dc:creator>rena</dc:creator>
  <dc:description/>
  <dc:language>en-US</dc:language>
  <cp:lastModifiedBy>rena</cp:lastModifiedBy>
  <dcterms:modified xsi:type="dcterms:W3CDTF">2013-03-05T18:42:22Z</dcterms:modified>
  <cp:revision>4</cp:revision>
  <dc:subject/>
  <dc:title>WINCENTY WITOS</dc:title>
</cp:coreProperties>
</file>